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move the slide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alkboar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面向对象强大的一个重用原理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ClassA</a:t>
            </a: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： </a:t>
            </a:r>
            <a:r>
              <a:rPr b="0" lang="en-US" sz="1800" spc="-1" strike="noStrike">
                <a:solidFill>
                  <a:srgbClr val="ff0000"/>
                </a:solidFill>
                <a:latin typeface="Lucida Grande"/>
                <a:ea typeface="Heiti SC Light"/>
              </a:rPr>
              <a:t>int x</a:t>
            </a:r>
            <a:r>
              <a:rPr b="0" lang="zh-CN" sz="1800" spc="-1" strike="noStrike">
                <a:solidFill>
                  <a:srgbClr val="ff0000"/>
                </a:solidFill>
                <a:latin typeface="Lucida Grande"/>
                <a:ea typeface="Heiti SC Light"/>
              </a:rPr>
              <a:t>； </a:t>
            </a:r>
            <a:r>
              <a:rPr b="0" lang="en-US" sz="1800" spc="-1" strike="noStrike">
                <a:solidFill>
                  <a:srgbClr val="ff0000"/>
                </a:solidFill>
                <a:latin typeface="Lucida Grande"/>
                <a:ea typeface="Heiti SC Light"/>
              </a:rPr>
              <a:t>initVar</a:t>
            </a:r>
            <a:r>
              <a:rPr b="0" lang="zh-CN" sz="1800" spc="-1" strike="noStrike">
                <a:solidFill>
                  <a:srgbClr val="ff0000"/>
                </a:solidFill>
                <a:latin typeface="Lucida Grande"/>
                <a:ea typeface="Heiti SC Light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lassB</a:t>
            </a: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lassB</a:t>
            </a: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并不是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SObject</a:t>
            </a: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的子类，而是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lassA</a:t>
            </a: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的子类（画图表示）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lassC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图中没有显示从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NSObject</a:t>
            </a: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类所继承的任何方法或实例变量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继承：不能减少方法或实例变量（只能添加）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Rectangle</a:t>
            </a: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：矩形，长方形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perimeter</a:t>
            </a: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：周长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Square</a:t>
            </a: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：正方型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Origin</a:t>
            </a: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：位置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>
              <a:spcBef>
                <a:spcPts val="901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>
              <a:spcBef>
                <a:spcPts val="901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9208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54304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31273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3127320" indent="-434880">
              <a:spcBef>
                <a:spcPts val="9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3127320" indent="-434880">
              <a:spcBef>
                <a:spcPts val="9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9208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54304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31273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3127320" indent="-434880">
              <a:spcBef>
                <a:spcPts val="9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3127320" indent="-434880">
              <a:spcBef>
                <a:spcPts val="9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第十四章：继承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super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69720" y="2945880"/>
            <a:ext cx="10464840" cy="288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self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：  引用消息接收者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super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：引用消息接收者的父类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@class</a:t>
            </a: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指令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69720" y="2882880"/>
            <a:ext cx="10464840" cy="421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@class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指令的效率比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#import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要高，因为编译器不需要处理整个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h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文件（虽然它很小）；而只需要知道使用到的名字是个类名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如果需要引用类中的方法，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@class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指令是不够的，只能使用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#import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，因为编译器需要更多消息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题目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0" name=""/>
          <p:cNvSpPr/>
          <p:nvPr/>
        </p:nvSpPr>
        <p:spPr>
          <a:xfrm>
            <a:off x="876240" y="2921040"/>
            <a:ext cx="1125216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0" tIns="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建立三个类：居民、成人、官员。居民包含身份证号、姓名、出生日期，而成人继承自居民，多包含学历、职业两项数据；官员则继承自成人，多包含党派、职务两项数据。要求每个类的字段都对外提供数据输入输出的功能。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题目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2" name=""/>
          <p:cNvSpPr/>
          <p:nvPr/>
        </p:nvSpPr>
        <p:spPr>
          <a:xfrm>
            <a:off x="1714680" y="2571840"/>
            <a:ext cx="957564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0" tIns="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编写一个类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culate1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，实现加、减两种运算，然后，编写另一个派生类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culate2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，实现乘、除两种运算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一切从根类开始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9" name=""/>
          <p:cNvSpPr/>
          <p:nvPr/>
        </p:nvSpPr>
        <p:spPr>
          <a:xfrm>
            <a:off x="1219320" y="2203560"/>
            <a:ext cx="10566360" cy="53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，父类自身也有父类，没有父类的类位于类层次的最顶层，称为</a:t>
            </a:r>
            <a:r>
              <a:rPr b="0" lang="zh-CN" sz="3600" spc="-1" strike="noStrike">
                <a:solidFill>
                  <a:srgbClr val="ffff00"/>
                </a:solidFill>
                <a:latin typeface="Chalkboard"/>
                <a:ea typeface="Heiti SC Light"/>
              </a:rPr>
              <a:t>根类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（如：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NSObject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，在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Objective-C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中，允许定义自己的根类，但是通常都不这么做，而是想用现有的类（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NSObject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，至今我们所定义的类都属于名为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NSObject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的根类的子类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，父类在接口文件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(@interface)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中指定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1447920" y="2514600"/>
            <a:ext cx="627372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Chalkboard"/>
              </a:rPr>
              <a:t>@interface Person:NSObjec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Chalkboard"/>
              </a:rPr>
              <a:t>..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Chalkboard"/>
              </a:rPr>
              <a:t>@end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1" name=""/>
          <p:cNvSpPr/>
          <p:nvPr/>
        </p:nvSpPr>
        <p:spPr>
          <a:xfrm>
            <a:off x="8483760" y="2133720"/>
            <a:ext cx="2006280" cy="685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Chalkboard"/>
              </a:rPr>
              <a:t>NSObject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2" name=""/>
          <p:cNvSpPr/>
          <p:nvPr/>
        </p:nvSpPr>
        <p:spPr>
          <a:xfrm>
            <a:off x="8483760" y="4038480"/>
            <a:ext cx="1968480" cy="685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Chalkboard"/>
              </a:rPr>
              <a:t>Person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9481320" y="2822400"/>
            <a:ext cx="25560" cy="12067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4" name=""/>
          <p:cNvSpPr/>
          <p:nvPr/>
        </p:nvSpPr>
        <p:spPr>
          <a:xfrm>
            <a:off x="1816200" y="6026040"/>
            <a:ext cx="10172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Person</a:t>
            </a: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就是从类</a:t>
            </a: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NSObject</a:t>
            </a: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派生出来的。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5" name=""/>
          <p:cNvSpPr/>
          <p:nvPr/>
        </p:nvSpPr>
        <p:spPr>
          <a:xfrm>
            <a:off x="11037240" y="2287080"/>
            <a:ext cx="36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根类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6" name=""/>
          <p:cNvSpPr/>
          <p:nvPr/>
        </p:nvSpPr>
        <p:spPr>
          <a:xfrm>
            <a:off x="11037240" y="4191840"/>
            <a:ext cx="36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子类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几个名称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269720" y="243828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子类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父类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超类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孙类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派生类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根类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继承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82320" y="2120760"/>
            <a:ext cx="10667880" cy="379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父类中的所用实例变量和实例方法都成为子类的一部分，这就意味着子类可以直接访问这些实例变量和方法（就像直接在类中定义了这些）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3375360" y="2340360"/>
            <a:ext cx="4182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类       实例变量       方法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901800" y="3200040"/>
            <a:ext cx="10680480" cy="3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3" name=""/>
          <p:cNvSpPr/>
          <p:nvPr/>
        </p:nvSpPr>
        <p:spPr>
          <a:xfrm>
            <a:off x="1267200" y="3572280"/>
            <a:ext cx="2327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NSObject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4" name=""/>
          <p:cNvSpPr/>
          <p:nvPr/>
        </p:nvSpPr>
        <p:spPr>
          <a:xfrm>
            <a:off x="1351080" y="5477040"/>
            <a:ext cx="1626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ClassA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5" name=""/>
          <p:cNvSpPr/>
          <p:nvPr/>
        </p:nvSpPr>
        <p:spPr>
          <a:xfrm>
            <a:off x="1348920" y="7280640"/>
            <a:ext cx="1631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ClassB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6" name=""/>
          <p:cNvSpPr/>
          <p:nvPr/>
        </p:nvSpPr>
        <p:spPr>
          <a:xfrm>
            <a:off x="5070960" y="5464440"/>
            <a:ext cx="282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x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7" name=""/>
          <p:cNvSpPr/>
          <p:nvPr/>
        </p:nvSpPr>
        <p:spPr>
          <a:xfrm>
            <a:off x="5080680" y="7268040"/>
            <a:ext cx="282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x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8" name=""/>
          <p:cNvSpPr/>
          <p:nvPr/>
        </p:nvSpPr>
        <p:spPr>
          <a:xfrm>
            <a:off x="7404480" y="5477040"/>
            <a:ext cx="1635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initVar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9" name=""/>
          <p:cNvSpPr/>
          <p:nvPr/>
        </p:nvSpPr>
        <p:spPr>
          <a:xfrm>
            <a:off x="7407720" y="7280640"/>
            <a:ext cx="1635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initVar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0" name=""/>
          <p:cNvSpPr/>
          <p:nvPr/>
        </p:nvSpPr>
        <p:spPr>
          <a:xfrm>
            <a:off x="10259280" y="7280640"/>
            <a:ext cx="2047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printVar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1" name=""/>
          <p:cNvSpPr/>
          <p:nvPr/>
        </p:nvSpPr>
        <p:spPr>
          <a:xfrm flipH="1" flipV="1">
            <a:off x="2098800" y="4317840"/>
            <a:ext cx="7920" cy="10922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2095560" y="6146640"/>
            <a:ext cx="7920" cy="10922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3" name=""/>
          <p:cNvSpPr/>
          <p:nvPr/>
        </p:nvSpPr>
        <p:spPr>
          <a:xfrm flipH="1" flipV="1">
            <a:off x="5245200" y="6134040"/>
            <a:ext cx="7920" cy="10922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8217000" y="6146640"/>
            <a:ext cx="7920" cy="10922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继承用处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69720" y="2146320"/>
            <a:ext cx="10464840" cy="351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添加新的实例变量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添加新的实例方法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重载方法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重载方法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69720" y="2387520"/>
            <a:ext cx="10464840" cy="383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继承不能删除或减少方法。但是可以利用重载来更改继承方法的定义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做法：在子类中定义一个同名的的方法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3375360" y="2340360"/>
            <a:ext cx="4182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类       实例变量       方法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901800" y="3200040"/>
            <a:ext cx="10680480" cy="3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1" name=""/>
          <p:cNvSpPr/>
          <p:nvPr/>
        </p:nvSpPr>
        <p:spPr>
          <a:xfrm>
            <a:off x="1267200" y="3572280"/>
            <a:ext cx="2327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NSObject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2" name=""/>
          <p:cNvSpPr/>
          <p:nvPr/>
        </p:nvSpPr>
        <p:spPr>
          <a:xfrm>
            <a:off x="1351080" y="5477040"/>
            <a:ext cx="1626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ClassA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3" name=""/>
          <p:cNvSpPr/>
          <p:nvPr/>
        </p:nvSpPr>
        <p:spPr>
          <a:xfrm>
            <a:off x="1348920" y="7280640"/>
            <a:ext cx="1631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ClassB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4" name=""/>
          <p:cNvSpPr/>
          <p:nvPr/>
        </p:nvSpPr>
        <p:spPr>
          <a:xfrm>
            <a:off x="5070960" y="5464440"/>
            <a:ext cx="282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x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5" name=""/>
          <p:cNvSpPr/>
          <p:nvPr/>
        </p:nvSpPr>
        <p:spPr>
          <a:xfrm>
            <a:off x="5080680" y="7268040"/>
            <a:ext cx="282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x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6" name=""/>
          <p:cNvSpPr/>
          <p:nvPr/>
        </p:nvSpPr>
        <p:spPr>
          <a:xfrm>
            <a:off x="7404480" y="5477040"/>
            <a:ext cx="1635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initVar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7" name=""/>
          <p:cNvSpPr/>
          <p:nvPr/>
        </p:nvSpPr>
        <p:spPr>
          <a:xfrm>
            <a:off x="7407720" y="7280640"/>
            <a:ext cx="1635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initVar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8" name=""/>
          <p:cNvSpPr/>
          <p:nvPr/>
        </p:nvSpPr>
        <p:spPr>
          <a:xfrm>
            <a:off x="10259280" y="7280640"/>
            <a:ext cx="2047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printVar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2098800" y="4317840"/>
            <a:ext cx="7920" cy="10922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0" name=""/>
          <p:cNvSpPr/>
          <p:nvPr/>
        </p:nvSpPr>
        <p:spPr>
          <a:xfrm flipH="1" flipV="1">
            <a:off x="2095560" y="6146640"/>
            <a:ext cx="7920" cy="10922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1" name=""/>
          <p:cNvSpPr/>
          <p:nvPr/>
        </p:nvSpPr>
        <p:spPr>
          <a:xfrm flipH="1" flipV="1">
            <a:off x="5245200" y="6134040"/>
            <a:ext cx="7920" cy="10922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2" name=""/>
          <p:cNvSpPr/>
          <p:nvPr/>
        </p:nvSpPr>
        <p:spPr>
          <a:xfrm flipH="1" flipV="1">
            <a:off x="8217000" y="6146640"/>
            <a:ext cx="7920" cy="10922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3" name=""/>
          <p:cNvSpPr/>
          <p:nvPr/>
        </p:nvSpPr>
        <p:spPr>
          <a:xfrm>
            <a:off x="8042400" y="6451560"/>
            <a:ext cx="338040" cy="2872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8051400" y="6451560"/>
            <a:ext cx="338040" cy="2872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